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B937-4560-4683-90B0-90B5C50A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F88A-86BE-44FA-BAC4-7390F54E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271-92A7-48B1-B9F6-1D453E93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1F3-862D-4A45-B1FE-DA842F24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C8EE-1588-4D06-A15F-1D6EEED0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8D99-EC34-47C5-B94C-2F689BAD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C74A-F1FF-4387-B06B-ACF2E23C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963A-EF06-4B2F-BB72-52C32750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A530-4F47-49CE-9387-3A49533E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6C09-2F4F-40D8-8153-6E18D4CA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3096-85C0-4B15-BF07-56F97485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B42-2EFE-42F3-91E8-6A18A52B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FED7-B12B-4610-8408-DCC6AE12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4901-88B7-475A-9068-9CEF4687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21C9-3DC4-40CD-8845-2BAB8EAD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B7AC-F7CA-4717-9D84-2EC8B33A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20F1-8BB9-40E2-ABBD-F5337232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3D49-A510-43F4-961C-F69E470C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CCE-264F-489E-B444-E3EBFC70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5AFF-B66D-4C9D-AEE2-3164BFA5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56C7-6DE7-4849-A30E-5D06AB57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3CAF-8720-4A1B-866E-9D7B7EAF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3FA-A6E0-4043-9FE4-FB436285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B5EF-59BD-449A-ABD0-7222FC20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36E9-9513-4E70-BAA7-3B41AD7C72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42C7-9759-4791-B7A6-B4631182EE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e llamo __________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lase 6NH(601)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 fecha es el 16 de octubre del 2012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Verdana"/>
              </a:rPr>
              <a:t>Propósito # 10: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Cómo repasamos para la prueba del Repaso 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OPIA y completa con la forma correcta del verbo “Ser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li y Karina no _____ de Hondur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Oscar y yo ______estudiantes de español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Jared y tú _______ alt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londra ______ simpátic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Yo ______ norteamerican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Karen _______ de El Salvado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75960"/>
            <a:ext cx="73134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actica: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PIA y responde en oraciones completa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De dónde ere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En qué escuela eres alumno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Es fácil o difícil el español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Son inteligentes los estudiante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Son ustedes alumnos en una escuela grande o pequeñ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Quién es la profesora de histori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ive the correct form of the verb S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ted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ú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sotro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Él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tede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llo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lla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lla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2880"/>
            <a:ext cx="73134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7774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opy and complete with the correct form of SE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Ona ________ inteligen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Yo __________ un alumno buen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esar y Kevin no _______ prim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Tú __________ cómic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Shan, Laura y yo __________ seri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Ustedes _________ perezoso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mily ___________ alt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Rachna, Karina y Alondra __________ de Estados Unid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Karen y Oscar _______ tímid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li ______ estudioso y simpátic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rea # 10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a la hoja distribuid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4:23:06Z</dcterms:created>
  <dc:creator>Helen Zumaeta</dc:creator>
  <dc:description/>
  <dc:language>en-US</dc:language>
  <cp:lastModifiedBy>Helen Zumaeta</cp:lastModifiedBy>
  <dcterms:modified xsi:type="dcterms:W3CDTF">2012-10-16T16:49:45Z</dcterms:modified>
  <cp:revision>12</cp:revision>
  <dc:subject/>
  <dc:title>Me llamo __________   Clase 6NH La fecha es el Primero de febrero del 2012</dc:title>
</cp:coreProperties>
</file>